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jeopardy.wav" ContentType="audio/x-wav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media/image6.png" ContentType="image/png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39E9-6495-4BDA-BD10-BE0B5650F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9E39-D425-492E-9FEA-017B7C7F5C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EC8A-7400-459E-9930-74ABED7678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9912-6738-4D09-BBE9-A3B5464C88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DD78-465F-4362-AEEF-7E6E4A59AC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205A-BDAE-4B3D-B8FE-45ED04D045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0BB3-1E8F-468F-B952-66140C4BF3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C321-AD5D-4ABF-A294-1DF89C2762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28DC-7B7A-4FC4-85F6-77642E4C11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57AA-0DC8-44E0-AE0F-6AE14FF028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C2F2-7EE8-452F-B28C-0806616B09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36D1-78F5-4491-A108-087E31E301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5497-75BD-481C-8477-31C13014D2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D570-EDBA-4164-BEB0-64CA5F7C00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C51B-F501-45F2-B778-DC69D0F0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FAA-409F-4AFD-9E88-764F016E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5678-7982-4B2F-9BDA-C625554D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E643-E9C4-4E54-83FD-9B913073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941F-557E-4E54-A235-73598DA2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15A3-1CEA-4F7B-BA6E-421382B8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10E5-C7B3-4FB8-A7A8-C38ECAA6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AAC3-FF5C-4AF4-9265-B122F894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6F8F-DC49-4B60-87E5-27B9C982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4AC6-EA28-4386-B9DB-51334CD3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4604-FD88-4986-8B30-01A2361E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43AA-5AC5-4D17-9C93-329F8240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7455-9114-44E4-B863-73197541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C0F5-E52C-43E8-BE30-F2F45046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42EC-DC1A-4A03-A1CC-703B0CE1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68E6-D6C0-493C-86DC-521675BA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07CA-C6A4-4F1D-BEAD-F203DDC3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1EE2-4771-4527-9760-A4EC0D77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0CC-950A-4B69-917B-E4B0FB9E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BF3-CDCF-451F-B316-E092AC42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A1DA-83A8-4380-B541-FC1D8F4E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FD88-7339-4761-A54A-CA998F75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763A-9B5F-4968-8B6F-E3D362BF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85D8-E72D-409D-8E24-A7990B31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904F-188E-417D-B8FA-E11BEF66DE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A05C-9960-4622-AC31-E2B1E895ED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33.xml"/><Relationship Id="rId10" Type="http://schemas.openxmlformats.org/officeDocument/2006/relationships/slide" Target="slide23.xml"/><Relationship Id="rId11" Type="http://schemas.openxmlformats.org/officeDocument/2006/relationships/slide" Target="slide43.xml"/><Relationship Id="rId12" Type="http://schemas.openxmlformats.org/officeDocument/2006/relationships/slide" Target="slide15.xml"/><Relationship Id="rId13" Type="http://schemas.openxmlformats.org/officeDocument/2006/relationships/slide" Target="slide25.xml"/><Relationship Id="rId14" Type="http://schemas.openxmlformats.org/officeDocument/2006/relationships/slide" Target="slide35.xml"/><Relationship Id="rId15" Type="http://schemas.openxmlformats.org/officeDocument/2006/relationships/slide" Target="slide45.xml"/><Relationship Id="rId16" Type="http://schemas.openxmlformats.org/officeDocument/2006/relationships/slide" Target="slide17.xml"/><Relationship Id="rId17" Type="http://schemas.openxmlformats.org/officeDocument/2006/relationships/slide" Target="slide27.xml"/><Relationship Id="rId18" Type="http://schemas.openxmlformats.org/officeDocument/2006/relationships/slide" Target="slide37.xml"/><Relationship Id="rId19" Type="http://schemas.openxmlformats.org/officeDocument/2006/relationships/slide" Target="slide47.xml"/><Relationship Id="rId20" Type="http://schemas.openxmlformats.org/officeDocument/2006/relationships/slide" Target="slide19.xml"/><Relationship Id="rId21" Type="http://schemas.openxmlformats.org/officeDocument/2006/relationships/slide" Target="slide29.xml"/><Relationship Id="rId22" Type="http://schemas.openxmlformats.org/officeDocument/2006/relationships/slide" Target="slide39.xml"/><Relationship Id="rId23" Type="http://schemas.openxmlformats.org/officeDocument/2006/relationships/slide" Target="slide49.xml"/><Relationship Id="rId24" Type="http://schemas.openxmlformats.org/officeDocument/2006/relationships/slide" Target="slide21.xml"/><Relationship Id="rId25" Type="http://schemas.openxmlformats.org/officeDocument/2006/relationships/slide" Target="slide31.xml"/><Relationship Id="rId26" Type="http://schemas.openxmlformats.org/officeDocument/2006/relationships/slide" Target="slide41.xml"/><Relationship Id="rId27" Type="http://schemas.openxmlformats.org/officeDocument/2006/relationships/slide" Target="slide51.xml"/><Relationship Id="rId28" Type="http://schemas.openxmlformats.org/officeDocument/2006/relationships/slide" Target="slide53.xml"/><Relationship Id="rId29" Type="http://schemas.openxmlformats.org/officeDocument/2006/relationships/audio" Target="../media/jeopardy.wav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ET’S PLAY JEOPARDY!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1676520" y="6102360"/>
            <a:ext cx="6057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Answer from Tli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991600" y="2590920"/>
            <a:ext cx="258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6 yea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7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Question from Tli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496440" y="2590920"/>
            <a:ext cx="805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he “T” word that is used to describ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 on your teaching practice and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 your own learning goals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32462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Answer from Tli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2397600" y="259092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ransformat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ne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757080" y="2590920"/>
            <a:ext cx="82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o is the “money lady” at SFU Field Studie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32462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981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Answer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ne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2436840" y="2819520"/>
            <a:ext cx="4149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o is Bridget Fox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77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770" fill="hold"/>
                                        <p:tgtEl>
                                          <p:spTgt spid="2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7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ne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528840" y="2514600"/>
            <a:ext cx="793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he cost of Grad Diploma Educati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 credit (+/- $50)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solidFill>
            <a:srgbClr val="c67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32462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Answer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ne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2948760" y="2590920"/>
            <a:ext cx="26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$252.3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7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ne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89240" y="2590920"/>
            <a:ext cx="712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he consequence of paying yo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uition up to 6 weeks lat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3" dur="32462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Answer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ne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911520" y="2590920"/>
            <a:ext cx="67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nothing (then 2% and 2%/month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9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ne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991440" y="2514600"/>
            <a:ext cx="688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governing body controls rate a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ich teachers are pai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6" dur="32462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762120" y="1535040"/>
          <a:ext cx="7775280" cy="463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5040"/>
                    <a:ext cx="777528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Text Box 4"/>
          <p:cNvSpPr/>
          <p:nvPr/>
        </p:nvSpPr>
        <p:spPr>
          <a:xfrm>
            <a:off x="838080" y="1523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Tli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286000" y="1523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Mone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809880" y="15238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Tech Tidbi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5394240" y="1523880"/>
            <a:ext cx="15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Cmptr Savv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6935400" y="15238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Humo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22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Rectangle 26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Rectangle 27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28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Rectangle 29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Rectangle 31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Rectangle 32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6766200" y="632448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ext Box 36"/>
          <p:cNvSpPr/>
          <p:nvPr/>
        </p:nvSpPr>
        <p:spPr>
          <a:xfrm>
            <a:off x="2880360" y="236520"/>
            <a:ext cx="35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 Rounded MT Bold"/>
              </a:rPr>
              <a:t>Jeopardy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218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Answer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ne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762480" y="2590920"/>
            <a:ext cx="70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eacher Qualification Service (TQ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92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192" fill="hold"/>
                                        <p:tgtEl>
                                          <p:spTgt spid="2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192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192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0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Question from Mone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-380880" y="165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915840" y="2590920"/>
            <a:ext cx="73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he main reason for taking Tlit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32462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6458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Answer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ne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1841760" y="2590920"/>
            <a:ext cx="57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more money (greed is good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8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ech Tidbits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1295280" y="2590920"/>
            <a:ext cx="6324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term is used to describe a collection of web pages designed to enable anyone who accesses it to contribute or modify conten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0" name="Picture 1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1"/>
          <p:cNvSpPr/>
          <p:nvPr/>
        </p:nvSpPr>
        <p:spPr>
          <a:xfrm>
            <a:off x="8686800" y="6477120"/>
            <a:ext cx="457200" cy="380880"/>
          </a:xfrm>
          <a:prstGeom prst="rect">
            <a:avLst/>
          </a:prstGeom>
          <a:solidFill>
            <a:srgbClr val="c67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Picture 14" descr=""/>
          <p:cNvPicPr/>
          <p:nvPr/>
        </p:nvPicPr>
        <p:blipFill>
          <a:blip r:embed="rId2"/>
          <a:stretch/>
        </p:blipFill>
        <p:spPr>
          <a:xfrm>
            <a:off x="81532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16"/>
          <p:cNvSpPr/>
          <p:nvPr/>
        </p:nvSpPr>
        <p:spPr>
          <a:xfrm>
            <a:off x="8077320" y="6491160"/>
            <a:ext cx="380880" cy="36684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7" dur="32462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6458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$100 Answer from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ech Tidbi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5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3066120" y="2590920"/>
            <a:ext cx="26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a Wik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100"/>
                            </p:stCondLst>
                            <p:childTnLst>
                              <p:par>
                                <p:cTn id="4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981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Tech Tidbi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2058840" y="2590920"/>
            <a:ext cx="540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iva and Zamzar is freeware designed to do wha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6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0" dur="32462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$200 Answer from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ech Tidbi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1447920" y="259092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download and convert internet videos to your comput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100"/>
                            </p:stCondLst>
                            <p:childTnLst>
                              <p:par>
                                <p:cTn id="5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8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Tech Tidbi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752480" y="259092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free software records and uploads your screen-cas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32462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695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$300 Answer from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ech Tidbi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3680280" y="2666880"/>
            <a:ext cx="22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J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365760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 you can pay $20 for IshowU for a much better program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11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Tech Tidbi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2058840" y="2590920"/>
            <a:ext cx="449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me freeware to do an online surve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2" dur="32462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0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Question from Tli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8458200" y="62485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666800" y="2590920"/>
            <a:ext cx="65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acronymn “Tlite” is short for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2462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695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Answer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Tech Tidbi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1439280" y="2590920"/>
            <a:ext cx="677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Google Docs, SurveyMonkey.com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rothersoft.com, etc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9" dur="250" autoRev="1" fill="hold"/>
                                        <p:tgtEl>
                                          <p:spTgt spid="3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8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6458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Tech Tidbi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2058840" y="2590920"/>
            <a:ext cx="533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he most common file sharing program on the Interne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2" dur="32462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Answer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Tech Tidbi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3302280" y="2743200"/>
            <a:ext cx="30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Limewir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4100"/>
                            </p:stCondLst>
                            <p:childTnLst>
                              <p:par>
                                <p:cTn id="6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9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Question from Cmptr Savvy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1295280" y="2590920"/>
            <a:ext cx="609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-term memory in a computer is referred to as what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4" dur="32462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218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Answer from Cmptr Savvy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1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485000" y="2590920"/>
            <a:ext cx="64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Random Access Memory (RAM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2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Question from Cmptr Savvy 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Text Box 11"/>
          <p:cNvSpPr/>
          <p:nvPr/>
        </p:nvSpPr>
        <p:spPr>
          <a:xfrm>
            <a:off x="1676520" y="2590920"/>
            <a:ext cx="586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ze of memory is referred to as KB, MB  and GB.  What is the next size up referred to a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7" name="Picture 13" descr=""/>
          <p:cNvPicPr/>
          <p:nvPr/>
        </p:nvPicPr>
        <p:blipFill>
          <a:blip r:embed="rId2"/>
          <a:stretch/>
        </p:blipFill>
        <p:spPr>
          <a:xfrm>
            <a:off x="815328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15"/>
          <p:cNvSpPr/>
          <p:nvPr/>
        </p:nvSpPr>
        <p:spPr>
          <a:xfrm>
            <a:off x="7924680" y="6324480"/>
            <a:ext cx="685800" cy="36684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3" dur="32462" fill="hold"/>
                                        <p:tgtEl>
                                          <p:spTgt spid="3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Answer from Cmptr Savvy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0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2434320" y="251460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terra-byte (TB) which equal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 thousand G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9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Question from Cmptr Savvy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889280" y="32194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838080" y="2590920"/>
            <a:ext cx="7086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re are several computer operating systems, many you are familiar with such as Windows, MAC-OS, MS-DOS and IMB-O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me one</a:t>
            </a:r>
            <a:r>
              <a:rPr b="1" lang="en-US" sz="2800" spc="-1" strike="noStrike">
                <a:solidFill>
                  <a:srgbClr val="ffffff"/>
                </a:solidFill>
                <a:latin typeface="ヒラギノ角ゴ Pro W3"/>
              </a:rPr>
              <a:t>_x0014_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ther operating system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4" dur="32462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Answer from Cmptr Savvy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2209680" y="2590920"/>
            <a:ext cx="37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Unix or Linux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3900"/>
                            </p:stCondLst>
                            <p:childTnLst>
                              <p:par>
                                <p:cTn id="8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9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Question from Cmptr Savvy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1600200" y="2514600"/>
            <a:ext cx="556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act discs (CD) can be written to and be read much faster now.  How is that possibl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6" dur="32462" fill="hold"/>
                                        <p:tgtEl>
                                          <p:spTgt spid="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Answer from Tli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457200" y="2590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is Teaching and Learning in a Technology Environ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Answer from Cmptr Savvy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4476600" y="2286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1600200" y="2590920"/>
            <a:ext cx="637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he faster the CD spins the faster is writes and read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48X spins at 24,000 rpm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TextBox 7"/>
          <p:cNvSpPr/>
          <p:nvPr/>
        </p:nvSpPr>
        <p:spPr>
          <a:xfrm>
            <a:off x="4038480" y="49528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D explod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3900"/>
                            </p:stCondLst>
                            <p:childTnLst>
                              <p:par>
                                <p:cTn id="8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8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6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Question from Cmptr Savvy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2058840" y="2590920"/>
            <a:ext cx="48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o is this perso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TextBox 7"/>
          <p:cNvSpPr/>
          <p:nvPr/>
        </p:nvSpPr>
        <p:spPr>
          <a:xfrm>
            <a:off x="2133720" y="3276720"/>
            <a:ext cx="49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4" name="Picture 8" descr=""/>
          <p:cNvPicPr/>
          <p:nvPr/>
        </p:nvPicPr>
        <p:blipFill>
          <a:blip r:embed="rId2"/>
          <a:stretch/>
        </p:blipFill>
        <p:spPr>
          <a:xfrm>
            <a:off x="3352680" y="3124080"/>
            <a:ext cx="304812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4" dur="32462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Answer from Cmptr Savvy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3303360" y="2743200"/>
            <a:ext cx="28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o is Bill Ga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8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Question from Humou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380880" y="2209680"/>
            <a:ext cx="855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p sign that you chosen the wrong universit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0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5" dur="32462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Answer from Humou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3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393480" y="2590920"/>
            <a:ext cx="82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iversity expects you to attend classes and do wor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4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9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8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Question from Humou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2745360" y="2590920"/>
            <a:ext cx="32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BM” me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7" dur="32462" fill="hold"/>
                                        <p:tgtEl>
                                          <p:spTgt spid="3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Answer from Humou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0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2934000" y="2590920"/>
            <a:ext cx="271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Bought a MA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2514600" y="3809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 Intense Bowel Move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8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6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164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$300 Question from Humour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228600" y="2209680"/>
            <a:ext cx="860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ou might be a _________ if the following apply to yo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1447920" y="3352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the concept of free time scares you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1219320" y="39625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you consider caffeine to be a major food grou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762120" y="4648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 dream about wikis, blogs and field stud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0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500"/>
                            </p:stCondLst>
                            <p:childTnLst>
                              <p:par>
                                <p:cTn id="10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2" dur="32462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874440"/>
            <a:ext cx="8229600" cy="15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Answer from Humou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1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2101320" y="2590920"/>
            <a:ext cx="43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lite Grad Stud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0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8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6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Question from Humou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152280" y="1752480"/>
            <a:ext cx="87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do the following symptoms indicate you ar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1295280" y="25909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shop regularly at Radio Shack (Sourc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1295280" y="380988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bought your spouse a new CD/DVD dr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1295280" y="51055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know what “HTML” me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0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2" dur="32462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Question from Tli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2566800" y="2590920"/>
            <a:ext cx="47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lite is from what universit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1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0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32462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171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$400 Answer from 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umou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1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1910880" y="2590920"/>
            <a:ext cx="476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geek (computer geek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0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14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Question from Humour 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OUBLE JEOPARDY</a:t>
            </a:r>
            <a:br>
              <a:rPr sz="28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231480" y="259092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ftware developers and another group have th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llowing in commo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7" name="Picture 15" descr=""/>
          <p:cNvPicPr/>
          <p:nvPr/>
        </p:nvPicPr>
        <p:blipFill>
          <a:blip r:embed="rId2"/>
          <a:stretch/>
        </p:blipFill>
        <p:spPr>
          <a:xfrm>
            <a:off x="815328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17"/>
          <p:cNvSpPr/>
          <p:nvPr/>
        </p:nvSpPr>
        <p:spPr>
          <a:xfrm>
            <a:off x="8001000" y="6324480"/>
            <a:ext cx="685800" cy="36684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Text Box 18"/>
          <p:cNvSpPr/>
          <p:nvPr/>
        </p:nvSpPr>
        <p:spPr>
          <a:xfrm>
            <a:off x="1219320" y="35812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first one is fre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Text Box 19"/>
          <p:cNvSpPr/>
          <p:nvPr/>
        </p:nvSpPr>
        <p:spPr>
          <a:xfrm>
            <a:off x="1219320" y="4038480"/>
            <a:ext cx="716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re is tons of cash in the 14 to 25 year old mark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Text Box 20"/>
          <p:cNvSpPr/>
          <p:nvPr/>
        </p:nvSpPr>
        <p:spPr>
          <a:xfrm>
            <a:off x="2133720" y="49528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oth refer to clients as us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Text Box 21"/>
          <p:cNvSpPr/>
          <p:nvPr/>
        </p:nvSpPr>
        <p:spPr>
          <a:xfrm>
            <a:off x="1600200" y="54864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o or what is the “group”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"/>
          <p:cNvSpPr/>
          <p:nvPr/>
        </p:nvSpPr>
        <p:spPr>
          <a:xfrm>
            <a:off x="1905120" y="2362320"/>
            <a:ext cx="5333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ake your wager (maximum is what you have banked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0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7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1" dur="32462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458200" cy="16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$500 Answer from 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umou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5" name="AutoShape 4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2577960" y="2590920"/>
            <a:ext cx="34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drug deal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0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4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4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16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Final Jeopardy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9" name="Rectangle 14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Text Box 15"/>
          <p:cNvSpPr/>
          <p:nvPr/>
        </p:nvSpPr>
        <p:spPr>
          <a:xfrm>
            <a:off x="1828800" y="1676520"/>
            <a:ext cx="521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oose your speaker and have him or her come up to the front of the room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TextBox 7"/>
          <p:cNvSpPr/>
          <p:nvPr/>
        </p:nvSpPr>
        <p:spPr>
          <a:xfrm>
            <a:off x="1981080" y="312408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topic will be Field Studi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TextBox 8"/>
          <p:cNvSpPr/>
          <p:nvPr/>
        </p:nvSpPr>
        <p:spPr>
          <a:xfrm>
            <a:off x="3048120" y="3733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question is…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TextBox 9"/>
          <p:cNvSpPr/>
          <p:nvPr/>
        </p:nvSpPr>
        <p:spPr>
          <a:xfrm>
            <a:off x="1600200" y="1676520"/>
            <a:ext cx="655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elley Wilcox described four themes, empowerment of participants, collaboration through participation, acquisition of knowledge and social change.  These themes define a type of inquiry called _______ _________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0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500"/>
                            </p:stCondLst>
                            <p:childTnLst>
                              <p:par>
                                <p:cTn id="1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2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4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Final Jeopardy Answer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5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2177280" y="2590920"/>
            <a:ext cx="408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Action Research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0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Answer from Tli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220040" y="2590920"/>
            <a:ext cx="63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Simon Fraser University (SFU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4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Question from Tli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954720" y="25909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he minimum level of technologic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nowledge and skills required to begin Tlite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32462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Answer from Tli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1130400" y="2590920"/>
            <a:ext cx="63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none; you can start at any leve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1" descr=""/>
          <p:cNvPicPr/>
          <p:nvPr/>
        </p:nvPicPr>
        <p:blipFill>
          <a:blip r:embed="rId1"/>
          <a:stretch/>
        </p:blipFill>
        <p:spPr>
          <a:xfrm>
            <a:off x="815328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Question from Tlite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OUBLE JEOPARD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8077320" y="228600"/>
            <a:ext cx="380880" cy="380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1221840" y="2743200"/>
            <a:ext cx="738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w many years do you have to comple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SFU graduate master program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8" name="Picture 15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7"/>
          <p:cNvSpPr/>
          <p:nvPr/>
        </p:nvSpPr>
        <p:spPr>
          <a:xfrm>
            <a:off x="8305920" y="6248520"/>
            <a:ext cx="609480" cy="3664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1371600" y="20574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ake your wager (maximum is what you have banked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32462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22:12:31Z</dcterms:created>
  <dc:creator>Cheryl Diermyer</dc:creator>
  <dc:description/>
  <dc:language>en-US</dc:language>
  <cp:lastModifiedBy>SD#34</cp:lastModifiedBy>
  <dcterms:modified xsi:type="dcterms:W3CDTF">2008-07-11T20:58:40Z</dcterms:modified>
  <cp:revision>110</cp:revision>
  <dc:subject/>
  <dc:title>Slide 1</dc:title>
</cp:coreProperties>
</file>